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EDC-F876-42F0-8A36-4DE0EAE7DB5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FC7-6B68-40DC-91E9-FE6CAB184CD6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809-F95E-452E-A880-9B72034F099F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C00-04A2-4F10-9997-E146EED27BE5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ABD-EBC4-440D-9169-F8D48E65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860B-4996-462E-A58F-FF57F3FD348F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894-4B2B-42C1-8DA5-BC610BD624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758-FC84-4E1D-A04C-5FDEB65A6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BC9B-2389-4B22-83E3-9E67F162BE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D895-0042-419E-BE70-6C27877E7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3746-EC11-4824-8009-A8DD4857F97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FA2-0440-4318-A32D-DA9E7A7AC44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D52-A22A-4301-81B3-B479C510E86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8DE2-C7A1-4605-B2F2-448B1D1BD3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3528-48F3-40B0-B693-146D7E0C84DC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00-3A18-4610-A44A-F38F6C1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4E2-C663-4F43-9008-D523D59D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F31-9983-47B3-85D2-7F9B363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9C8-788C-4AE5-BA3E-DBF072F6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3B2-C1C6-428E-979E-415D15DC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970-8BFE-425B-8EC2-BFA640E0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DE5-B94D-4812-93C0-1DEC8C4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C0D-ADDF-482C-8B10-1CCAF76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D12-C91A-4D06-80C2-750AEE3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DF1-184E-4C57-BF12-0287B5C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F00-8354-48CB-AF9B-ACDFA902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9B7-6032-4E3A-91D7-20D36FED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4B32-38C9-421D-8C22-5E6BCC67E89D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forestation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op-down Model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1"/>
          <a:srcRect l="27162" t="28452" r="1949" b="19185"/>
          <a:stretch/>
        </p:blipFill>
        <p:spPr>
          <a:xfrm>
            <a:off x="588960" y="1776240"/>
            <a:ext cx="403848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rcRect l="27162" t="28045" r="1949" b="19550"/>
          <a:stretch/>
        </p:blipFill>
        <p:spPr>
          <a:xfrm>
            <a:off x="4917960" y="1776240"/>
            <a:ext cx="403884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84" name="AutoShape 25"/>
          <p:cNvCxnSpPr/>
          <p:nvPr/>
        </p:nvCxnSpPr>
        <p:spPr>
          <a:xfrm flipH="1" rot="16200000">
            <a:off x="3102120" y="4008240"/>
            <a:ext cx="930960" cy="233424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5" name="AutoShape 26"/>
          <p:cNvCxnSpPr/>
          <p:nvPr/>
        </p:nvCxnSpPr>
        <p:spPr>
          <a:xfrm rot="5400000">
            <a:off x="5425200" y="4018320"/>
            <a:ext cx="930960" cy="231480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imple Dema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48160" y="566424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3117960" y="47829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Difference betwee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092000" y="14652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2080" y="106668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Driv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68240" y="6357960"/>
            <a:ext cx="204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652320" y="1523880"/>
            <a:ext cx="2436480" cy="1687320"/>
            <a:chOff x="652320" y="1523880"/>
            <a:chExt cx="2436480" cy="1687320"/>
          </a:xfrm>
        </p:grpSpPr>
        <p:pic>
          <p:nvPicPr>
            <p:cNvPr id="194" name="Picture 9" descr=""/>
            <p:cNvPicPr/>
            <p:nvPr/>
          </p:nvPicPr>
          <p:blipFill>
            <a:blip r:embed="rId1"/>
            <a:stretch/>
          </p:blipFill>
          <p:spPr>
            <a:xfrm>
              <a:off x="652320" y="1523880"/>
              <a:ext cx="204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2"/>
            <a:stretch/>
          </p:blipFill>
          <p:spPr>
            <a:xfrm>
              <a:off x="838080" y="1716480"/>
              <a:ext cx="21355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3"/>
            <a:stretch/>
          </p:blipFill>
          <p:spPr>
            <a:xfrm>
              <a:off x="1209240" y="1973160"/>
              <a:ext cx="1879560" cy="123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6673680" y="1922400"/>
            <a:ext cx="228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968400" y="4778280"/>
            <a:ext cx="192420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6254640" y="5038560"/>
            <a:ext cx="2590920" cy="105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3728880" y="4524480"/>
            <a:ext cx="2343240" cy="1690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6"/>
          <p:cNvSpPr/>
          <p:nvPr/>
        </p:nvSpPr>
        <p:spPr>
          <a:xfrm>
            <a:off x="3755880" y="6178680"/>
            <a:ext cx="2041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ultivariat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435720" y="6356520"/>
            <a:ext cx="203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4"/>
          <p:cNvCxnSpPr/>
          <p:nvPr/>
        </p:nvCxnSpPr>
        <p:spPr>
          <a:xfrm flipV="1">
            <a:off x="2747520" y="2590560"/>
            <a:ext cx="91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4" name="AutoShape 26"/>
          <p:cNvCxnSpPr>
            <a:endCxn id="197" idx="1"/>
          </p:cNvCxnSpPr>
          <p:nvPr/>
        </p:nvCxnSpPr>
        <p:spPr>
          <a:xfrm>
            <a:off x="6025680" y="2590560"/>
            <a:ext cx="64836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5" name="AutoShape 30"/>
          <p:cNvCxnSpPr/>
          <p:nvPr/>
        </p:nvCxnSpPr>
        <p:spPr>
          <a:xfrm>
            <a:off x="4892760" y="3047760"/>
            <a:ext cx="8640" cy="147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AutoShape 31"/>
          <p:cNvCxnSpPr/>
          <p:nvPr/>
        </p:nvCxnSpPr>
        <p:spPr>
          <a:xfrm flipH="1" rot="16200000">
            <a:off x="5226120" y="2562120"/>
            <a:ext cx="1991520" cy="2657880"/>
          </a:xfrm>
          <a:prstGeom prst="bentConnector3">
            <a:avLst>
              <a:gd name="adj1" fmla="val 4999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AutoShape 32"/>
          <p:cNvCxnSpPr/>
          <p:nvPr/>
        </p:nvCxnSpPr>
        <p:spPr>
          <a:xfrm rot="5400000">
            <a:off x="2609280" y="2406240"/>
            <a:ext cx="1603800" cy="2963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8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676680" y="214632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196760" y="28494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6778800" y="3306600"/>
            <a:ext cx="2286000" cy="134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 – CLU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564000" y="35305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m 5" descr="AREA_INDIGENA.png"/>
          <p:cNvPicPr/>
          <p:nvPr/>
        </p:nvPicPr>
        <p:blipFill>
          <a:blip r:embed="rId2"/>
          <a:srcRect l="0" t="0" r="0" b="10067"/>
          <a:stretch/>
        </p:blipFill>
        <p:spPr>
          <a:xfrm>
            <a:off x="468360" y="1330200"/>
            <a:ext cx="2766960" cy="145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Users\User\Desktop\FIGURAS\DIST_RODOVIAS.png"/>
          <p:cNvPicPr/>
          <p:nvPr/>
        </p:nvPicPr>
        <p:blipFill>
          <a:blip r:embed="rId3"/>
          <a:srcRect l="0" t="0" r="15384" b="8420"/>
          <a:stretch/>
        </p:blipFill>
        <p:spPr>
          <a:xfrm>
            <a:off x="611280" y="2739960"/>
            <a:ext cx="2160360" cy="136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User\Desktop\FIGURAS\DIST_PORTOS.png"/>
          <p:cNvPicPr/>
          <p:nvPr/>
        </p:nvPicPr>
        <p:blipFill>
          <a:blip r:embed="rId4"/>
          <a:srcRect l="0" t="0" r="0" b="11203"/>
          <a:stretch/>
        </p:blipFill>
        <p:spPr>
          <a:xfrm>
            <a:off x="581040" y="4146480"/>
            <a:ext cx="204624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468360" y="10414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68360" y="2573280"/>
            <a:ext cx="115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95280" y="3848040"/>
            <a:ext cx="96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m 7" descr="DEFOR_10.png"/>
          <p:cNvPicPr/>
          <p:nvPr/>
        </p:nvPicPr>
        <p:blipFill>
          <a:blip r:embed="rId5"/>
          <a:srcRect l="0" t="0" r="0" b="8270"/>
          <a:stretch/>
        </p:blipFill>
        <p:spPr>
          <a:xfrm>
            <a:off x="4672080" y="623880"/>
            <a:ext cx="3365280" cy="180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32440" y="695160"/>
            <a:ext cx="191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26"/>
          <p:cNvCxnSpPr/>
          <p:nvPr/>
        </p:nvCxnSpPr>
        <p:spPr>
          <a:xfrm flipV="1">
            <a:off x="4599000" y="2063160"/>
            <a:ext cx="792720" cy="14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Rectangle 1"/>
          <p:cNvSpPr/>
          <p:nvPr/>
        </p:nvSpPr>
        <p:spPr>
          <a:xfrm>
            <a:off x="4095720" y="2403360"/>
            <a:ext cx="165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6"/>
          <p:cNvCxnSpPr/>
          <p:nvPr/>
        </p:nvCxnSpPr>
        <p:spPr>
          <a:xfrm>
            <a:off x="7120080" y="2063520"/>
            <a:ext cx="576360" cy="864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26" name="Imagem 7" descr="DEFOR_10.png"/>
          <p:cNvPicPr/>
          <p:nvPr/>
        </p:nvPicPr>
        <p:blipFill>
          <a:blip r:embed="rId6"/>
          <a:srcRect l="0" t="0" r="0" b="8270"/>
          <a:stretch/>
        </p:blipFill>
        <p:spPr>
          <a:xfrm>
            <a:off x="611280" y="5554800"/>
            <a:ext cx="2376360" cy="1269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395280" y="52768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ight Brace 1"/>
          <p:cNvSpPr/>
          <p:nvPr/>
        </p:nvSpPr>
        <p:spPr>
          <a:xfrm>
            <a:off x="2700360" y="1268280"/>
            <a:ext cx="647640" cy="5400720"/>
          </a:xfrm>
          <a:custGeom>
            <a:avLst/>
            <a:gdLst>
              <a:gd name="textAreaLeft" fmla="*/ 0 w 647640"/>
              <a:gd name="textAreaRight" fmla="*/ 234000 w 647640"/>
              <a:gd name="textAreaTop" fmla="*/ 129960 h 5400720"/>
              <a:gd name="textAreaBottom" fmla="*/ 52707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7" descr="demanda_alocacao"/>
          <p:cNvPicPr/>
          <p:nvPr/>
        </p:nvPicPr>
        <p:blipFill>
          <a:blip r:embed="rId1"/>
          <a:stretch/>
        </p:blipFill>
        <p:spPr>
          <a:xfrm>
            <a:off x="826920" y="3573360"/>
            <a:ext cx="6551640" cy="3073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tistics: Humans as cloud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229600" cy="1440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Establishes statistical relationship with variables that are related to the phenomena under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Basic hypothesis: stationar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>
            <a:hlinkClick r:id="rId2" action="ppaction://hlinksldjump"/>
          </p:cNvPr>
          <p:cNvSpPr/>
          <p:nvPr/>
        </p:nvSpPr>
        <p:spPr>
          <a:xfrm>
            <a:off x="2238120" y="1341360"/>
            <a:ext cx="38977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1"/>
          <p:cNvSpPr/>
          <p:nvPr/>
        </p:nvSpPr>
        <p:spPr>
          <a:xfrm>
            <a:off x="4673160" y="6550200"/>
            <a:ext cx="4466520" cy="3070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nte: Verburg et al,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Env. Man., Vol. 30, No. 3, pp. 391–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48240" y="3846600"/>
          <a:ext cx="45259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492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5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639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887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89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TI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600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SSENT_0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7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4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MUITOBAIX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37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030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UC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0995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498920" y="560520"/>
          <a:ext cx="45277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510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4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13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239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830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816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UC_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55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OP_RUR_19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65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ASSENT_9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4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238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NU_AGR_MEDIUM_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221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pic>
        <p:nvPicPr>
          <p:cNvPr id="236" name="Imagem 2" descr="acum_0208_25.tiff"/>
          <p:cNvPicPr/>
          <p:nvPr/>
        </p:nvPicPr>
        <p:blipFill>
          <a:blip r:embed="rId1"/>
          <a:srcRect l="0" t="4001" r="51930" b="5097"/>
          <a:stretch/>
        </p:blipFill>
        <p:spPr>
          <a:xfrm>
            <a:off x="-4680" y="325440"/>
            <a:ext cx="4394160" cy="64627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4"/>
          <p:cNvSpPr/>
          <p:nvPr/>
        </p:nvSpPr>
        <p:spPr>
          <a:xfrm>
            <a:off x="166680" y="398520"/>
            <a:ext cx="4222800" cy="6345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5"/>
          <p:cNvSpPr/>
          <p:nvPr/>
        </p:nvSpPr>
        <p:spPr>
          <a:xfrm>
            <a:off x="55440" y="3429000"/>
            <a:ext cx="1376640" cy="368280"/>
          </a:xfrm>
          <a:prstGeom prst="rect">
            <a:avLst/>
          </a:prstGeom>
          <a:solidFill>
            <a:srgbClr val="f2f2f2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Humnst777 BT"/>
              </a:rPr>
              <a:t>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2"/>
          <p:cNvSpPr/>
          <p:nvPr/>
        </p:nvSpPr>
        <p:spPr>
          <a:xfrm>
            <a:off x="4000680" y="3465360"/>
            <a:ext cx="803160" cy="337320"/>
          </a:xfrm>
          <a:prstGeom prst="rect">
            <a:avLst/>
          </a:prstGeom>
          <a:solidFill>
            <a:srgbClr val="f2f2f2"/>
          </a:solidFill>
          <a:ln w="284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Humnst777 BT"/>
              </a:rPr>
              <a:t>25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400" y="69840"/>
            <a:ext cx="541656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Humnst777 BT"/>
              </a:rPr>
              <a:t>Amazônia x Variables of 1996/200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8"/>
          <p:cNvSpPr/>
          <p:nvPr/>
        </p:nvSpPr>
        <p:spPr>
          <a:xfrm>
            <a:off x="7283520" y="95400"/>
            <a:ext cx="1752480" cy="3988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Humnst777 BT"/>
                <a:ea typeface="Geneva"/>
              </a:rPr>
              <a:t>26 Vari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7000920" y="3754440"/>
            <a:ext cx="194148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546120" y="4906800"/>
            <a:ext cx="2293920" cy="135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573120" y="628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519120" y="2700360"/>
            <a:ext cx="2910960" cy="1779840"/>
            <a:chOff x="519120" y="2700360"/>
            <a:chExt cx="2910960" cy="1779840"/>
          </a:xfrm>
        </p:grpSpPr>
        <p:pic>
          <p:nvPicPr>
            <p:cNvPr id="247" name="Picture 15" descr=""/>
            <p:cNvPicPr/>
            <p:nvPr/>
          </p:nvPicPr>
          <p:blipFill>
            <a:blip r:embed="rId3"/>
            <a:stretch/>
          </p:blipFill>
          <p:spPr>
            <a:xfrm>
              <a:off x="607320" y="2700360"/>
              <a:ext cx="2205000" cy="13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6"/>
            <p:cNvSpPr/>
            <p:nvPr/>
          </p:nvSpPr>
          <p:spPr>
            <a:xfrm>
              <a:off x="519120" y="4081320"/>
              <a:ext cx="291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scape map a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6502320" y="504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Landscape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9"/>
          <p:cNvGrpSpPr/>
          <p:nvPr/>
        </p:nvGrpSpPr>
        <p:grpSpPr>
          <a:xfrm>
            <a:off x="2581200" y="1531800"/>
            <a:ext cx="4767120" cy="985680"/>
            <a:chOff x="2581200" y="1531800"/>
            <a:chExt cx="4767120" cy="985680"/>
          </a:xfrm>
        </p:grpSpPr>
        <p:pic>
          <p:nvPicPr>
            <p:cNvPr id="251" name="Picture 20" descr=""/>
            <p:cNvPicPr/>
            <p:nvPr/>
          </p:nvPicPr>
          <p:blipFill>
            <a:blip r:embed="rId4"/>
            <a:stretch/>
          </p:blipFill>
          <p:spPr>
            <a:xfrm>
              <a:off x="2581200" y="1987920"/>
              <a:ext cx="476712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4138920" y="1531800"/>
              <a:ext cx="259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2586600" y="2246760"/>
              <a:ext cx="563040" cy="264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AutoShape 23"/>
          <p:cNvCxnSpPr/>
          <p:nvPr/>
        </p:nvCxnSpPr>
        <p:spPr>
          <a:xfrm flipV="1">
            <a:off x="6226200" y="4349520"/>
            <a:ext cx="775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AutoShape 24"/>
          <p:cNvCxnSpPr/>
          <p:nvPr/>
        </p:nvCxnSpPr>
        <p:spPr>
          <a:xfrm>
            <a:off x="2813040" y="3376440"/>
            <a:ext cx="1023120" cy="97560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6" name="AutoShape 25"/>
          <p:cNvCxnSpPr/>
          <p:nvPr/>
        </p:nvCxnSpPr>
        <p:spPr>
          <a:xfrm flipV="1">
            <a:off x="2839680" y="4350960"/>
            <a:ext cx="996120" cy="1234080"/>
          </a:xfrm>
          <a:prstGeom prst="bentConnector3">
            <a:avLst>
              <a:gd name="adj1" fmla="val 4862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7" name="Text Box 26"/>
          <p:cNvSpPr/>
          <p:nvPr/>
        </p:nvSpPr>
        <p:spPr>
          <a:xfrm>
            <a:off x="4054320" y="4834080"/>
            <a:ext cx="1905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nk-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7"/>
          <p:cNvCxnSpPr/>
          <p:nvPr/>
        </p:nvCxnSpPr>
        <p:spPr>
          <a:xfrm>
            <a:off x="4965840" y="2517480"/>
            <a:ext cx="3600" cy="141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9" name="AutoShape 28"/>
          <p:cNvCxnSpPr/>
          <p:nvPr/>
        </p:nvCxnSpPr>
        <p:spPr>
          <a:xfrm flipV="1" rot="16200000">
            <a:off x="4251600" y="33480"/>
            <a:ext cx="1054800" cy="6387480"/>
          </a:xfrm>
          <a:prstGeom prst="bentConnector3">
            <a:avLst>
              <a:gd name="adj1" fmla="val 22284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0" name="Rectangle 5"/>
          <p:cNvSpPr/>
          <p:nvPr/>
        </p:nvSpPr>
        <p:spPr>
          <a:xfrm>
            <a:off x="3846600" y="39337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orestation.l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1413000"/>
            <a:ext cx="8283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Three strategies for computing pot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rhood: Based on the average deforestation of th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gression: Based on distance to roads, ports, and protec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xed: Based on these fou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yearl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2920" y="460080"/>
            <a:ext cx="8164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s need to be Calibrated and “Validated”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80880" y="1523880"/>
            <a:ext cx="8458200" cy="5365800"/>
            <a:chOff x="380880" y="1523880"/>
            <a:chExt cx="8458200" cy="5365800"/>
          </a:xfrm>
        </p:grpSpPr>
        <p:sp>
          <p:nvSpPr>
            <p:cNvPr id="266" name="Rectangle 2"/>
            <p:cNvSpPr/>
            <p:nvPr/>
          </p:nvSpPr>
          <p:spPr>
            <a:xfrm>
              <a:off x="1676160" y="2590560"/>
              <a:ext cx="592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4267080" y="2895480"/>
              <a:ext cx="182880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2285640" y="2285640"/>
              <a:ext cx="19047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456840" y="4190760"/>
              <a:ext cx="1676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20</a:t>
              </a:r>
              <a:r>
                <a:rPr b="0" lang="en-GB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6" descr=""/>
            <p:cNvPicPr/>
            <p:nvPr/>
          </p:nvPicPr>
          <p:blipFill>
            <a:blip r:embed="rId3"/>
            <a:stretch/>
          </p:blipFill>
          <p:spPr>
            <a:xfrm>
              <a:off x="3808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2719080" y="449568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4980240" y="49528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9"/>
            <p:cNvGrpSpPr/>
            <p:nvPr/>
          </p:nvGrpSpPr>
          <p:grpSpPr>
            <a:xfrm>
              <a:off x="1218960" y="5181480"/>
              <a:ext cx="3581280" cy="1343520"/>
              <a:chOff x="1218960" y="5181480"/>
              <a:chExt cx="3581280" cy="1343520"/>
            </a:xfrm>
          </p:grpSpPr>
          <p:sp>
            <p:nvSpPr>
              <p:cNvPr id="274" name="Text Box 10"/>
              <p:cNvSpPr/>
              <p:nvPr/>
            </p:nvSpPr>
            <p:spPr>
              <a:xfrm>
                <a:off x="3947760" y="6132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1"/>
              <p:cNvSpPr/>
              <p:nvPr/>
            </p:nvSpPr>
            <p:spPr>
              <a:xfrm>
                <a:off x="1523520" y="518148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2"/>
              <p:cNvSpPr/>
              <p:nvPr/>
            </p:nvSpPr>
            <p:spPr>
              <a:xfrm>
                <a:off x="3504960" y="548604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1218960" y="609552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Calibr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3276360" y="617184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Valid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15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6"/>
            <p:cNvGrpSpPr/>
            <p:nvPr/>
          </p:nvGrpSpPr>
          <p:grpSpPr>
            <a:xfrm>
              <a:off x="5867280" y="1981080"/>
              <a:ext cx="2971800" cy="4548960"/>
              <a:chOff x="5867280" y="1981080"/>
              <a:chExt cx="2971800" cy="4548960"/>
            </a:xfrm>
          </p:grpSpPr>
          <p:pic>
            <p:nvPicPr>
              <p:cNvPr id="281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3809880"/>
                <a:ext cx="2286000" cy="20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8"/>
              <p:cNvSpPr/>
              <p:nvPr/>
            </p:nvSpPr>
            <p:spPr>
              <a:xfrm>
                <a:off x="7256520" y="6019920"/>
                <a:ext cx="98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"/>
              <p:cNvSpPr/>
              <p:nvPr/>
            </p:nvSpPr>
            <p:spPr>
              <a:xfrm>
                <a:off x="6781680" y="3200400"/>
                <a:ext cx="175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cena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0"/>
              <p:cNvSpPr/>
              <p:nvPr/>
            </p:nvSpPr>
            <p:spPr>
              <a:xfrm>
                <a:off x="5867280" y="1981080"/>
                <a:ext cx="1905120" cy="838440"/>
              </a:xfrm>
              <a:custGeom>
                <a:avLst/>
                <a:gdLst>
                  <a:gd name="textAreaLeft" fmla="*/ 335160 w 1905120"/>
                  <a:gd name="textAreaRight" fmla="*/ 1375920 w 1905120"/>
                  <a:gd name="textAreaTop" fmla="*/ 112320 h 838440"/>
                  <a:gd name="textAreaBottom" fmla="*/ 7261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600" hR="21600" stAng="10800000" swAng="5400000"/>
                    <a:lnTo>
                      <a:pt x="11800" y="0"/>
                    </a:lnTo>
                    <a:arcTo wR="7600" hR="21600" stAng="-5400000" swAng="2691708"/>
                    <a:lnTo>
                      <a:pt x="21165" y="14400"/>
                    </a:lnTo>
                    <a:lnTo>
                      <a:pt x="17300" y="21600"/>
                    </a:lnTo>
                    <a:lnTo>
                      <a:pt x="12565" y="14400"/>
                    </a:lnTo>
                    <a:lnTo>
                      <a:pt x="14765" y="14400"/>
                    </a:lnTo>
                    <a:arcTo wR="7600" hR="21600" stAng="-2708292" swAng="-2345122"/>
                    <a:lnTo>
                      <a:pt x="9700" y="841"/>
                    </a:lnTo>
                    <a:arcTo wR="7600" hR="21600" stAng="-5746586" swAng="-5053414"/>
                    <a:close/>
                  </a:path>
                  <a:path fill="darkenLess" w="21600" h="21600">
                    <a:moveTo>
                      <a:pt x="0" y="21600"/>
                    </a:moveTo>
                    <a:arcTo wR="7600" hR="21600" stAng="10800000" swAng="5400000"/>
                    <a:lnTo>
                      <a:pt x="7600" y="0"/>
                    </a:lnTo>
                    <a:arcTo wR="7600" hR="21600" stAng="-5400000" swAng="346586"/>
                    <a:lnTo>
                      <a:pt x="9700" y="841"/>
                    </a:lnTo>
                    <a:arcTo wR="7600" hR="21600" stAng="-5746586" swAng="-505341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21"/>
            <p:cNvSpPr/>
            <p:nvPr/>
          </p:nvSpPr>
          <p:spPr>
            <a:xfrm>
              <a:off x="3581280" y="1676160"/>
              <a:ext cx="1295280" cy="609480"/>
            </a:xfrm>
            <a:custGeom>
              <a:avLst/>
              <a:gdLst>
                <a:gd name="textAreaLeft" fmla="*/ 227880 w 1295280"/>
                <a:gd name="textAreaRight" fmla="*/ 935640 w 1295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9480" y="65214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ZapfHumnst BT"/>
                </a:rPr>
                <a:t>Source: Cláudia Alme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Imagem 3" descr=""/>
          <p:cNvPicPr/>
          <p:nvPr/>
        </p:nvPicPr>
        <p:blipFill>
          <a:blip r:embed="rId1"/>
          <a:stretch/>
        </p:blipFill>
        <p:spPr>
          <a:xfrm>
            <a:off x="1476360" y="988920"/>
            <a:ext cx="5904000" cy="5621400"/>
          </a:xfrm>
          <a:prstGeom prst="rect">
            <a:avLst/>
          </a:prstGeom>
          <a:ln w="0">
            <a:noFill/>
          </a:ln>
        </p:spPr>
      </p:pic>
      <p:sp>
        <p:nvSpPr>
          <p:cNvPr id="290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: Multilev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8483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Modelling and Public Polic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2560" y="2949480"/>
            <a:ext cx="1555920" cy="212724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19280" y="3398760"/>
            <a:ext cx="1576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7920" y="3354480"/>
            <a:ext cx="1440000" cy="1312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95880" y="3311640"/>
            <a:ext cx="1682640" cy="1385640"/>
          </a:xfrm>
          <a:prstGeom prst="diamond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413480" y="3086280"/>
            <a:ext cx="1460520" cy="1841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s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68800" y="1981080"/>
            <a:ext cx="1439640" cy="92088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84560" y="5133960"/>
            <a:ext cx="1577880" cy="698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0"/>
          <p:cNvCxnSpPr>
            <a:stCxn id="114" idx="1"/>
            <a:endCxn id="109" idx="0"/>
          </p:cNvCxnSpPr>
          <p:nvPr/>
        </p:nvCxnSpPr>
        <p:spPr>
          <a:xfrm flipV="1" rot="10800000">
            <a:off x="1459800" y="2440440"/>
            <a:ext cx="1809000" cy="5086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7" name="AutoShape 11"/>
          <p:cNvCxnSpPr>
            <a:stCxn id="109" idx="3"/>
            <a:endCxn id="111" idx="1"/>
          </p:cNvCxnSpPr>
          <p:nvPr/>
        </p:nvCxnSpPr>
        <p:spPr>
          <a:xfrm flipV="1">
            <a:off x="2238480" y="4009320"/>
            <a:ext cx="1010160" cy="3960"/>
          </a:xfrm>
          <a:prstGeom prst="bentConnector3">
            <a:avLst>
              <a:gd name="adj1" fmla="val 4998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AutoShape 12"/>
          <p:cNvCxnSpPr>
            <a:stCxn id="115" idx="1"/>
            <a:endCxn id="109" idx="2"/>
          </p:cNvCxnSpPr>
          <p:nvPr/>
        </p:nvCxnSpPr>
        <p:spPr>
          <a:xfrm rot="10800000">
            <a:off x="1459800" y="5076000"/>
            <a:ext cx="1724760" cy="4071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AutoShape 13"/>
          <p:cNvCxnSpPr>
            <a:stCxn id="112" idx="2"/>
            <a:endCxn id="115" idx="3"/>
          </p:cNvCxnSpPr>
          <p:nvPr/>
        </p:nvCxnSpPr>
        <p:spPr>
          <a:xfrm rot="5400000">
            <a:off x="5006160" y="4452480"/>
            <a:ext cx="786600" cy="12754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0" name="AutoShape 14"/>
          <p:cNvCxnSpPr>
            <a:stCxn id="111" idx="3"/>
            <a:endCxn id="112" idx="1"/>
          </p:cNvCxnSpPr>
          <p:nvPr/>
        </p:nvCxnSpPr>
        <p:spPr>
          <a:xfrm flipV="1">
            <a:off x="4687560" y="4004640"/>
            <a:ext cx="508680" cy="54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AutoShape 15"/>
          <p:cNvCxnSpPr>
            <a:stCxn id="114" idx="3"/>
            <a:endCxn id="112" idx="0"/>
          </p:cNvCxnSpPr>
          <p:nvPr/>
        </p:nvCxnSpPr>
        <p:spPr>
          <a:xfrm>
            <a:off x="4708080" y="2441160"/>
            <a:ext cx="1329480" cy="8708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AutoShape 16"/>
          <p:cNvCxnSpPr>
            <a:stCxn id="113" idx="1"/>
            <a:endCxn id="112" idx="3"/>
          </p:cNvCxnSpPr>
          <p:nvPr/>
        </p:nvCxnSpPr>
        <p:spPr>
          <a:xfrm rot="10800000">
            <a:off x="6877800" y="4004640"/>
            <a:ext cx="535680" cy="2160"/>
          </a:xfrm>
          <a:prstGeom prst="bentConnector3">
            <a:avLst>
              <a:gd name="adj1" fmla="val 49966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t According to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477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 of Land Chan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Screen Shot 2013-06-25 at 20.51.10.png"/>
          <p:cNvPicPr/>
          <p:nvPr/>
        </p:nvPicPr>
        <p:blipFill>
          <a:blip r:embed="rId1"/>
          <a:srcRect l="0" t="0" r="0" b="803"/>
          <a:stretch/>
        </p:blipFill>
        <p:spPr>
          <a:xfrm>
            <a:off x="1258920" y="2201760"/>
            <a:ext cx="6626160" cy="4656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rmalize the error according to the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mpute error instead of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nd Change Models x Cellular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09480" y="1413000"/>
            <a:ext cx="85345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Behavior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ad from the neighbors and write in the cell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a land change model be considered a Cellular Auto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"/>
          <p:cNvGrpSpPr/>
          <p:nvPr/>
        </p:nvGrpSpPr>
        <p:grpSpPr>
          <a:xfrm>
            <a:off x="5940360" y="1413000"/>
            <a:ext cx="2592360" cy="2676240"/>
            <a:chOff x="5940360" y="1413000"/>
            <a:chExt cx="2592360" cy="2676240"/>
          </a:xfrm>
        </p:grpSpPr>
        <p:sp>
          <p:nvSpPr>
            <p:cNvPr id="302" name="Rectangle 4"/>
            <p:cNvSpPr/>
            <p:nvPr/>
          </p:nvSpPr>
          <p:spPr>
            <a:xfrm>
              <a:off x="594036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637200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1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6804000" y="141300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7"/>
            <p:cNvSpPr/>
            <p:nvPr/>
          </p:nvSpPr>
          <p:spPr>
            <a:xfrm>
              <a:off x="6804000" y="18590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8"/>
            <p:cNvSpPr/>
            <p:nvPr/>
          </p:nvSpPr>
          <p:spPr>
            <a:xfrm>
              <a:off x="6804000" y="23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"/>
            <p:cNvSpPr/>
            <p:nvPr/>
          </p:nvSpPr>
          <p:spPr>
            <a:xfrm>
              <a:off x="6804000" y="27734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2"/>
            <p:cNvSpPr/>
            <p:nvPr/>
          </p:nvSpPr>
          <p:spPr>
            <a:xfrm>
              <a:off x="723744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723744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723744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7237440" y="2766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23744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8"/>
            <p:cNvSpPr/>
            <p:nvPr/>
          </p:nvSpPr>
          <p:spPr>
            <a:xfrm>
              <a:off x="7669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9"/>
            <p:cNvSpPr/>
            <p:nvPr/>
          </p:nvSpPr>
          <p:spPr>
            <a:xfrm>
              <a:off x="7669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0"/>
            <p:cNvSpPr/>
            <p:nvPr/>
          </p:nvSpPr>
          <p:spPr>
            <a:xfrm>
              <a:off x="7669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1"/>
            <p:cNvSpPr/>
            <p:nvPr/>
          </p:nvSpPr>
          <p:spPr>
            <a:xfrm>
              <a:off x="7669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2"/>
            <p:cNvSpPr/>
            <p:nvPr/>
          </p:nvSpPr>
          <p:spPr>
            <a:xfrm>
              <a:off x="7669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3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8101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5"/>
            <p:cNvSpPr/>
            <p:nvPr/>
          </p:nvSpPr>
          <p:spPr>
            <a:xfrm>
              <a:off x="8101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"/>
            <p:cNvSpPr/>
            <p:nvPr/>
          </p:nvSpPr>
          <p:spPr>
            <a:xfrm>
              <a:off x="8101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7"/>
            <p:cNvSpPr/>
            <p:nvPr/>
          </p:nvSpPr>
          <p:spPr>
            <a:xfrm>
              <a:off x="8101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8"/>
            <p:cNvSpPr/>
            <p:nvPr/>
          </p:nvSpPr>
          <p:spPr>
            <a:xfrm>
              <a:off x="8101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0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1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5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6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7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8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9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0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1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2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3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4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Brazilian Amazon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4" name="Picture 3" descr="Captura de Tela 2013-03-20 às 09.02.52.png"/>
          <p:cNvPicPr/>
          <p:nvPr/>
        </p:nvPicPr>
        <p:blipFill>
          <a:blip r:embed="rId1"/>
          <a:stretch/>
        </p:blipFill>
        <p:spPr>
          <a:xfrm>
            <a:off x="762120" y="981000"/>
            <a:ext cx="6546600" cy="5908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292080" y="648828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ZapfHumnst BT"/>
              </a:rPr>
              <a:t>Source:  PRODES (IN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-4680" y="3240"/>
            <a:ext cx="1008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terraAmazon2"/>
          <p:cNvPicPr/>
          <p:nvPr/>
        </p:nvPicPr>
        <p:blipFill>
          <a:blip r:embed="rId1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prodes_acum_97b"/>
          <p:cNvPicPr/>
          <p:nvPr/>
        </p:nvPicPr>
        <p:blipFill>
          <a:blip r:embed="rId2"/>
          <a:srcRect l="631" t="0" r="-409" b="0"/>
          <a:stretch/>
        </p:blipFill>
        <p:spPr>
          <a:xfrm>
            <a:off x="4713120" y="3627360"/>
            <a:ext cx="422928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084320" y="6281640"/>
            <a:ext cx="714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</a:rPr>
              <a:t>PRODES - Deforestation in Amaz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06280" y="0"/>
            <a:ext cx="871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2" name="Picture 60" descr="prodes2003_04"/>
          <p:cNvPicPr/>
          <p:nvPr/>
        </p:nvPicPr>
        <p:blipFill>
          <a:blip r:embed="rId1"/>
          <a:stretch/>
        </p:blipFill>
        <p:spPr>
          <a:xfrm>
            <a:off x="468360" y="105264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ellular Spac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op-down Land Change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865680" y="2498760"/>
            <a:ext cx="2455920" cy="812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42880" y="402588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65680" y="4025880"/>
            <a:ext cx="2438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Change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8"/>
          <p:cNvGrpSpPr/>
          <p:nvPr/>
        </p:nvGrpSpPr>
        <p:grpSpPr>
          <a:xfrm>
            <a:off x="581040" y="1177920"/>
            <a:ext cx="2692440" cy="1352520"/>
            <a:chOff x="581040" y="1177920"/>
            <a:chExt cx="2692440" cy="1352520"/>
          </a:xfrm>
        </p:grpSpPr>
        <p:pic>
          <p:nvPicPr>
            <p:cNvPr id="149" name="Picture 7" descr=""/>
            <p:cNvPicPr/>
            <p:nvPr/>
          </p:nvPicPr>
          <p:blipFill>
            <a:blip r:embed="rId1"/>
            <a:srcRect l="0" t="13352" r="0" b="20043"/>
            <a:stretch/>
          </p:blipFill>
          <p:spPr>
            <a:xfrm>
              <a:off x="581040" y="117792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2"/>
            <a:srcRect l="0" t="13352" r="0" b="20043"/>
            <a:stretch/>
          </p:blipFill>
          <p:spPr>
            <a:xfrm>
              <a:off x="581040" y="142560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3"/>
            <a:srcRect l="0" t="13352" r="0" b="20043"/>
            <a:stretch/>
          </p:blipFill>
          <p:spPr>
            <a:xfrm>
              <a:off x="631800" y="1635120"/>
              <a:ext cx="264168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2" descr=""/>
          <p:cNvPicPr/>
          <p:nvPr/>
        </p:nvPicPr>
        <p:blipFill>
          <a:blip r:embed="rId4"/>
          <a:srcRect l="0" t="13352" r="0" b="20043"/>
          <a:stretch/>
        </p:blipFill>
        <p:spPr>
          <a:xfrm>
            <a:off x="6662880" y="4025880"/>
            <a:ext cx="2544480" cy="852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7044840" y="4906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Land use at </a:t>
            </a:r>
            <a:r>
              <a:rPr b="1" i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7"/>
          <p:cNvGrpSpPr/>
          <p:nvPr/>
        </p:nvGrpSpPr>
        <p:grpSpPr>
          <a:xfrm>
            <a:off x="3817800" y="5595840"/>
            <a:ext cx="2543040" cy="1198440"/>
            <a:chOff x="3817800" y="5595840"/>
            <a:chExt cx="2543040" cy="1198440"/>
          </a:xfrm>
        </p:grpSpPr>
        <p:pic>
          <p:nvPicPr>
            <p:cNvPr id="155" name="Picture 18" descr=""/>
            <p:cNvPicPr/>
            <p:nvPr/>
          </p:nvPicPr>
          <p:blipFill>
            <a:blip r:embed="rId5"/>
            <a:srcRect l="0" t="13352" r="0" b="20043"/>
            <a:stretch/>
          </p:blipFill>
          <p:spPr>
            <a:xfrm>
              <a:off x="3817800" y="5595840"/>
              <a:ext cx="25430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9"/>
            <p:cNvSpPr/>
            <p:nvPr/>
          </p:nvSpPr>
          <p:spPr>
            <a:xfrm>
              <a:off x="4014720" y="6426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 use a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7315200" y="6099120"/>
            <a:ext cx="1216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im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0"/>
          <p:cNvCxnSpPr>
            <a:stCxn id="145" idx="2"/>
            <a:endCxn id="147" idx="0"/>
          </p:cNvCxnSpPr>
          <p:nvPr/>
        </p:nvCxnSpPr>
        <p:spPr>
          <a:xfrm flipH="1">
            <a:off x="5083920" y="3311640"/>
            <a:ext cx="1044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" name="Text Box 31"/>
          <p:cNvSpPr/>
          <p:nvPr/>
        </p:nvSpPr>
        <p:spPr>
          <a:xfrm>
            <a:off x="5224320" y="3416400"/>
            <a:ext cx="152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How m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2886120" y="3963960"/>
            <a:ext cx="990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33"/>
          <p:cNvCxnSpPr>
            <a:stCxn id="146" idx="3"/>
            <a:endCxn id="147" idx="1"/>
          </p:cNvCxnSpPr>
          <p:nvPr/>
        </p:nvCxnSpPr>
        <p:spPr>
          <a:xfrm>
            <a:off x="2905200" y="4455720"/>
            <a:ext cx="961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2" name="AutoShape 34"/>
          <p:cNvCxnSpPr>
            <a:stCxn id="147" idx="2"/>
          </p:cNvCxnSpPr>
          <p:nvPr/>
        </p:nvCxnSpPr>
        <p:spPr>
          <a:xfrm>
            <a:off x="5084640" y="4889520"/>
            <a:ext cx="576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3" name="AutoShape 35"/>
          <p:cNvCxnSpPr>
            <a:endCxn id="153" idx="2"/>
          </p:cNvCxnSpPr>
          <p:nvPr/>
        </p:nvCxnSpPr>
        <p:spPr>
          <a:xfrm flipV="1">
            <a:off x="6219360" y="5272920"/>
            <a:ext cx="1653480" cy="749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Text Box 39"/>
          <p:cNvSpPr/>
          <p:nvPr/>
        </p:nvSpPr>
        <p:spPr>
          <a:xfrm>
            <a:off x="961920" y="2549520"/>
            <a:ext cx="152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40"/>
          <p:cNvCxnSpPr>
            <a:endCxn id="145" idx="0"/>
          </p:cNvCxnSpPr>
          <p:nvPr/>
        </p:nvCxnSpPr>
        <p:spPr>
          <a:xfrm>
            <a:off x="3011400" y="2082600"/>
            <a:ext cx="2083680" cy="416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41"/>
          <p:cNvCxnSpPr>
            <a:stCxn id="164" idx="2"/>
            <a:endCxn id="146" idx="0"/>
          </p:cNvCxnSpPr>
          <p:nvPr/>
        </p:nvCxnSpPr>
        <p:spPr>
          <a:xfrm>
            <a:off x="1722600" y="2927160"/>
            <a:ext cx="2160" cy="10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7" name="AutoShape 42"/>
          <p:cNvCxnSpPr>
            <a:endCxn id="147" idx="3"/>
          </p:cNvCxnSpPr>
          <p:nvPr/>
        </p:nvCxnSpPr>
        <p:spPr>
          <a:xfrm flipH="1">
            <a:off x="6303240" y="4452840"/>
            <a:ext cx="50076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9" descr="transition_matrix"/>
          <p:cNvPicPr/>
          <p:nvPr/>
        </p:nvPicPr>
        <p:blipFill>
          <a:blip r:embed="rId1"/>
          <a:stretch/>
        </p:blipFill>
        <p:spPr>
          <a:xfrm>
            <a:off x="4695840" y="427500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0"/>
          <p:cNvSpPr/>
          <p:nvPr/>
        </p:nvSpPr>
        <p:spPr>
          <a:xfrm>
            <a:off x="4924440" y="61707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Matrix (Markov ch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662040" y="4143240"/>
            <a:ext cx="3371400" cy="2861280"/>
            <a:chOff x="662040" y="4143240"/>
            <a:chExt cx="3371400" cy="2861280"/>
          </a:xfrm>
        </p:grpSpPr>
        <p:pic>
          <p:nvPicPr>
            <p:cNvPr id="172" name="Picture 32" descr=""/>
            <p:cNvPicPr/>
            <p:nvPr/>
          </p:nvPicPr>
          <p:blipFill>
            <a:blip r:embed="rId2"/>
            <a:stretch/>
          </p:blipFill>
          <p:spPr>
            <a:xfrm>
              <a:off x="662040" y="4143240"/>
              <a:ext cx="3371400" cy="22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3"/>
            <p:cNvSpPr/>
            <p:nvPr/>
          </p:nvSpPr>
          <p:spPr>
            <a:xfrm>
              <a:off x="1116720" y="6300720"/>
              <a:ext cx="28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Global economic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604800" y="1287360"/>
            <a:ext cx="3715920" cy="2884680"/>
            <a:chOff x="604800" y="1287360"/>
            <a:chExt cx="3715920" cy="2884680"/>
          </a:xfrm>
        </p:grpSpPr>
        <p:pic>
          <p:nvPicPr>
            <p:cNvPr id="175" name="Picture 35" descr=""/>
            <p:cNvPicPr/>
            <p:nvPr/>
          </p:nvPicPr>
          <p:blipFill>
            <a:blip r:embed="rId3"/>
            <a:stretch/>
          </p:blipFill>
          <p:spPr>
            <a:xfrm>
              <a:off x="604800" y="1287360"/>
              <a:ext cx="3715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6"/>
            <p:cNvSpPr/>
            <p:nvPr/>
          </p:nvSpPr>
          <p:spPr>
            <a:xfrm>
              <a:off x="1519200" y="34682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rend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5229360" y="1287360"/>
            <a:ext cx="3237840" cy="2870280"/>
            <a:chOff x="5229360" y="1287360"/>
            <a:chExt cx="3237840" cy="2870280"/>
          </a:xfrm>
        </p:grpSpPr>
        <p:sp>
          <p:nvSpPr>
            <p:cNvPr id="178" name="Text Box 38"/>
            <p:cNvSpPr/>
            <p:nvPr/>
          </p:nvSpPr>
          <p:spPr>
            <a:xfrm>
              <a:off x="5900040" y="3453840"/>
              <a:ext cx="23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Building Scen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39" descr=""/>
            <p:cNvPicPr/>
            <p:nvPr/>
          </p:nvPicPr>
          <p:blipFill>
            <a:blip r:embed="rId4"/>
            <a:stretch/>
          </p:blipFill>
          <p:spPr>
            <a:xfrm>
              <a:off x="5229360" y="1287360"/>
              <a:ext cx="3237840" cy="20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73980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13T00:13:02Z</dcterms:modified>
  <cp:revision>416</cp:revision>
  <dc:subject/>
  <dc:title>Low-carbon growth in Brazil?</dc:title>
</cp:coreProperties>
</file>